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593-BCD0-4819-9622-67F690E6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706-81AD-431A-AE89-BC32DF2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FEC-87A4-46F5-8A4A-749B2C54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580-0700-4DC9-903D-0131C973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F3FA-08CE-43E2-9BF7-0C9A04E8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33B-FF23-4CE5-9A8A-DDD9CAB0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D81D-DC14-4F39-87F5-674AEEF3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ABB3-611B-4793-AA1E-695B29DE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3BB1-563A-4070-A7A5-165CF6E8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8C16-CBE9-4512-A46E-F7A9E118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978-5772-448E-A70E-CC85A2C5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94D-B7CC-402D-89EB-D6CD15BD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F756-686A-4A7D-A3E6-BB8822EA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AF0-E1F7-4F25-8FB0-C774DD1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4F8D-4497-489E-B799-E3639B96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5F1B-9E59-4AC4-919E-C39ADECC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639-A40C-48AF-88A2-B7A56725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A4A-B2BA-43FE-9D0B-EBDAECDF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C2B-D6C4-4F16-8B31-059BAB6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0E9-B80A-4948-AEA6-F61D17BD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A5C-5FE7-452A-B374-73869EA6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16E-D411-47C4-A9B2-DF27FAF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842-DF7C-4157-AE1D-29DD7933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0DB5-ABBF-434D-874E-1AF012C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70E2-5A94-4671-BC43-39FB10132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E61B-92F7-49FF-9AB4-D12568396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en.wikipedia.org/wiki/File:Usta&#353;a_forced_conversions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en.wikipedia.org/wiki/File:Ustasamilitia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Simon_Wiesenthal_Center" TargetMode="External"/><Relationship Id="rId3" Type="http://schemas.openxmlformats.org/officeDocument/2006/relationships/hyperlink" Target="http://en.wikipedia.org/wiki/Encyclopedia_of_the_Holocaust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Eastern Fro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orld War 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ugoslavia’s op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Let Germany take over after all they are much stro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Fight back because it’s not right to take over another count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ease no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World War I the country of Yugoslavia was created by the allies to include Serbs, Croats, Slovenes, Macedonians, Montenegrin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ugoslavia was a Constitutional Monarchy headed by the Serbian Monarchy the Karageorgivch Fami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Yugoslavia after the Nazi’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ce how the map has chang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46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happened to Yugoslavia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erbs resist instead of giving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za Mihailovic and the Chetniks revolt in M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an Nedic want to save the as many Serbs as possible creating the Serbian Government of Salv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sip Broz Tito is the leader of the Partisan (communists) and he fights the Nazi’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atians join the Nazi’s and are known as Ustashi (Ustas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mages of the Ustasi Occup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tasa leader Ante Pavelic with Nazi Foreign Minister Joachim von Ribbentrop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rbs being converted to Catholi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ctims in Jasenovac Concentration Ca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1905120"/>
            <a:ext cx="228600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9920" y="1828800"/>
            <a:ext cx="2590560" cy="170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3048120" y="3833640"/>
            <a:ext cx="25905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id Croatia w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rding to th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mon Wiesenthal Cen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citing the </a:t>
            </a: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Encyclopedia of the Holoca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, "Ustasa terrorists killed 500,000 Serbs, expelled 250,000 and forced 250,000 to convert to Catholicism. They murdered thousands of Jews and Gypsies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laining the Trage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rimes of the fascist Ustashe against the Serbs in the notorious camp of Jasenovac must be known - crimes that are the worst ones along with those committed against the Jews in the Holocaust."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imon Wiesenth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entration Camp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ko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n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strebarsko (children’s cam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dov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senova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restine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uc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pogl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borgr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a Gradis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vni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senovac then;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152800" cy="2324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90920" y="4038480"/>
            <a:ext cx="2857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senovac Memorial No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should the Serbs do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oices were hard either be killed by the Ustasa or fight agains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azi’s had a formula for every 1 German killed 100 Serbs; 1 German injured 50 Serbs k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Serbs from Bosnia, Lika, Dalmatia decided to f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sided with the Partisans (Tito and the communis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went along with the Chetni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itler wants Gree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f Hitler can take Greece he can have control of the Mediterranean Se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 has to go through Europe to get ther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taly invades Greece through Albania 10/28/194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Germany joins April 1941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Greeks fight har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the worst battles is the Battle of Cret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raza Mihailov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rld War I soldier Dragolub took the responsibility of organizing the Chetniks to fight against the Nazi’s in the name of the Royal Army in May 1941 after the Nazi’s inv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15526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048120" y="43434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mcilo Dju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riest and Duke of the Dinarska Division under the leadership of Draza organized the Ser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Independent State of Croatia and Bosnia many Serbs resisted under the Chetni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Momcilo djujic.jpg"/>
          <p:cNvPicPr/>
          <p:nvPr/>
        </p:nvPicPr>
        <p:blipFill>
          <a:blip r:embed="rId2"/>
          <a:stretch/>
        </p:blipFill>
        <p:spPr>
          <a:xfrm>
            <a:off x="5943600" y="3962520"/>
            <a:ext cx="1965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ilan Ned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d a group of Serbs in Serbia known as the Serbian Government of Sal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 did this to save as many Serbs as possible from the Nazi’s and Communi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352680" y="4114800"/>
            <a:ext cx="2143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were the Allies doing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beginning of the War the Allies supported the Chetni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saved 500 U.S. Airm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the Allies changed sides and supported Tito/Partis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had no choice either flee Yugoslavia or stay and be kil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juic Leav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ke Djuic leaves with 20,000 Serbs north for Sloven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alk almost all winter long and stay over night in houses when the weather gets really 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 Dinarska Division Chetniks walk to Italy and surrender to the Allies on May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Djurdjev D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New Chap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begins the life in the Camps of Italy, and Germany after the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etniks are joined by Nedic’s Serbs who also have to flee because the Communists w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they come to the United States, England, Australia, Canada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y is this important to k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of all people should know their hist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the hatred of Serbs from WWII is still around today in Croa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se who cannot remember the past, are condemned to repeat it,"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orge Santayana (12/16/1863- 9/26/1952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osopher, essayist, poet, and novelis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roatia Today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erbs are not welcom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ce Day April 10 1991 same day as 194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e flag from W.W.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mous Ustashi leaders are common street names and historical landmar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2857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taly and Germany attack the Balkan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Content Placeholder 3" descr="Invasion-of-Greece-1941-World-War-II.jpg"/>
          <p:cNvPicPr/>
          <p:nvPr/>
        </p:nvPicPr>
        <p:blipFill>
          <a:blip r:embed="rId2"/>
          <a:stretch/>
        </p:blipFill>
        <p:spPr>
          <a:xfrm>
            <a:off x="2813040" y="1981080"/>
            <a:ext cx="351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viet Union;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of Hitler’s greatest enemies is Russi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itler breaks the non-aggression pact signed by both countries in 1939 and starts to invade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Russians fight hard and have the most causalities in the w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Russian winter proves extra hard for the Germanys and they can’t maintain the arm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ssia at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ople of Russia greatly suff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Ukraine “The Bread Basket” of Russia the people burn crops in order to keep the Germanys from e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a picture of  Tanya Savicheva who kept a list of  fami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ers that di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m strav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3" descr="250px-Tanya_Savicheva_Diary[1].jpg"/>
          <p:cNvPicPr/>
          <p:nvPr/>
        </p:nvPicPr>
        <p:blipFill>
          <a:blip r:embed="rId2"/>
          <a:stretch/>
        </p:blipFill>
        <p:spPr>
          <a:xfrm>
            <a:off x="4038480" y="3957480"/>
            <a:ext cx="35578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ussia at W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Leningrad/St. Petersburg the people suffer through a harsh winter and have to boil leather (horse skin) to eat f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eating too much could poison you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viet soldiers on skies patrolling the 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200px-Leningrad_skiers[1].jpg"/>
          <p:cNvPicPr/>
          <p:nvPr/>
        </p:nvPicPr>
        <p:blipFill>
          <a:blip r:embed="rId2"/>
          <a:stretch/>
        </p:blipFill>
        <p:spPr>
          <a:xfrm>
            <a:off x="4343400" y="403848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ussia’s Resistance against the Nazi’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Dmitri Shostakovich’s 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Symphony No. 7 in C major</a:t>
            </a: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Dedicated to the city of Leningrad on 27 December 1941.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ymbol of resistance and defiance to Nazi totalitarianism and militarism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People all over the world listened to this symphony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p of Russ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Content Placeholder 3" descr="OPERATION_BARBAROSSA[1].jpg"/>
          <p:cNvPicPr/>
          <p:nvPr/>
        </p:nvPicPr>
        <p:blipFill>
          <a:blip r:embed="rId2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st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British control the Palestinian's were with the Allies in World War I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was hard for Palestine to pick a side they didn’t want to side with Germany who was attacking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the British were al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the Jewish peo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Palestini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http://www.subtire.com/wp-content/uploads/2008/04/world-war-2.jpg"/>
          <p:cNvPicPr/>
          <p:nvPr/>
        </p:nvPicPr>
        <p:blipFill>
          <a:blip r:embed="rId2"/>
          <a:stretch/>
        </p:blipFill>
        <p:spPr>
          <a:xfrm>
            <a:off x="5486400" y="3747960"/>
            <a:ext cx="2895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6:17:51Z</dcterms:created>
  <dc:creator> </dc:creator>
  <dc:description/>
  <dc:language>en-US</dc:language>
  <cp:lastModifiedBy> </cp:lastModifiedBy>
  <dcterms:modified xsi:type="dcterms:W3CDTF">2011-01-24T02:20:36Z</dcterms:modified>
  <cp:revision>5</cp:revision>
  <dc:subject/>
  <dc:title>The Serbian Holocaust</dc:title>
</cp:coreProperties>
</file>